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874-9CBE-492D-8241-6F21BC2D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915-6E09-4F50-8A00-D8910D88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BAA-3EE6-4874-A508-8217F9FF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FAE-172F-4753-8BD7-9D855052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5AD-0AA0-4893-A25C-52449F5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325-C44B-475E-89C1-2680782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9C1-0744-4C47-BC13-4F17E9AE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9EA-D55B-4F54-B5B0-65D003F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109-FCDD-4821-88DF-B586D514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CF0-572F-4C77-9BE0-39D28B2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D56-2677-4085-8A57-ABF82D84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FAC-1716-42A5-96A8-1A235CF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7EE-3CAD-4B90-A84D-E2C435DD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rchipela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293840"/>
            <a:ext cx="601992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to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19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d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92504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81240"/>
            <a:ext cx="701064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ny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117144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171440"/>
            <a:ext cx="73152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3:35:53Z</dcterms:created>
  <dc:creator>netadmin8</dc:creator>
  <dc:description/>
  <dc:language>en-US</dc:language>
  <cp:lastModifiedBy>netadmin8</cp:lastModifiedBy>
  <dcterms:modified xsi:type="dcterms:W3CDTF">2012-10-02T14:09:16Z</dcterms:modified>
  <cp:revision>4</cp:revision>
  <dc:subject/>
  <dc:title>Slide 1</dc:title>
</cp:coreProperties>
</file>